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08C-5AC5-4788-8C40-F0B2CC7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E9F-7324-443E-81A9-9ED5BB96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93C-32E1-41AB-92C1-4CD60D60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D1E-3C77-46F4-8A37-5401A516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7126-7A67-4C6C-8CC7-3159BA42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BFCF-7135-4581-A466-3D79CB8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53BB-7E4B-44EE-A561-BC951AF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02C9-9B03-47D0-B087-56C53FD3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4887-E012-492B-BFB1-6AB3DDC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4CA-9263-4505-BCC7-335EFE2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BCAD-1681-45C5-ACEE-F9313CE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B6-682E-4630-8332-EA8FEF4D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BB20-59AA-4AEB-9F46-0390F1E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B6F-BE6B-4DBC-9B31-6FA4DB4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3B15-E8EA-4EE9-8493-89287310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37D-99DA-49C9-AC89-B83EE5C5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56F6-1387-40BF-9F6C-4FAF5044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538AF-74A3-4216-A702-38079736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2DBAC-1B75-4CA5-A4C7-40811D8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78EFA-EBE5-4401-86A7-BD4854E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4C49C-3143-48D9-8826-7488561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7AC38-06F6-47CF-89BF-BE65A5A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50D-0F84-4D01-8CF2-A0754C0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0B450-6D78-4EF5-8236-96ADD902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2496F-E672-4B69-8CFA-DFA382E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E6E26-3384-44D5-A702-7B80D34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45183-9F39-4547-A430-2C707E0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DA206-20B6-41F6-8345-79A80DE5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D5A18-B302-4111-8415-66079E24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676D3-D604-4E50-B4C8-205BF5BD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0602-24B4-46C4-8399-35474B95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DEE3-C581-4E64-BAB3-795E4DF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E2F7-555C-422C-8952-1BA307C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F08-A042-494C-AE0C-5F29E005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426A-05DE-466C-9BC8-68DB839A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B795-9926-46C5-B99E-4FD8D202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C37A-77DD-414D-86C0-6F1347D4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4B3A-1161-4E37-ACCC-A1712B0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D667-69C2-4349-9E5D-D4BF869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C36E-7B01-4512-9D7B-8A8DE4A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6C78-A7DA-4B23-863D-E24425D1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9E14-EE3A-49D4-9C91-EE8D06BB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20F4-B687-4C52-8D2B-00E58663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5C2-9670-46F3-9B66-F7755D5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FB-3E25-4DFD-86C2-65EFD245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C64-EEAD-4AEE-9737-1BE1531E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8AE-BFA2-440A-8136-AC37893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47A-EB29-478C-8EFB-C9AF1B1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33D-C83E-451D-AD00-A267F0463DC9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546-6E85-49CF-B576-3924EBA68A25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C80-09C0-4183-B1FE-3EB8DC56033F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AB78-8F92-44AD-B4B2-027BE11FCE25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3858" TargetMode="External"/><Relationship Id="rId2" Type="http://schemas.openxmlformats.org/officeDocument/2006/relationships/hyperlink" Target="http://www.youtube.com/watch?v=olO73t4kf9E" TargetMode="External"/><Relationship Id="rId3" Type="http://schemas.openxmlformats.org/officeDocument/2006/relationships/hyperlink" Target="file:///Book1%20Compound%20Word%20Excel.xlsx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3328?ref=search" TargetMode="External"/><Relationship Id="rId2" Type="http://schemas.openxmlformats.org/officeDocument/2006/relationships/hyperlink" Target="http://www.youtube.com/watch?v=whP2p9sIJ6w" TargetMode="External"/><Relationship Id="rId3" Type="http://schemas.openxmlformats.org/officeDocument/2006/relationships/hyperlink" Target="file:///Copy%20of%20fairytl%20-%20Grammar%20Scrambler.xls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4009?ref=search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preadsheets in Language Ar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Group 1 and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C:\Users\susan.marshall\AppData\Local\Microsoft\Windows\Temporary Internet Files\Content.IE5\7HFQ6HZE\MP900387953[1].jpg"/>
          <p:cNvPicPr/>
          <p:nvPr/>
        </p:nvPicPr>
        <p:blipFill>
          <a:blip r:embed="rId1"/>
          <a:stretch/>
        </p:blipFill>
        <p:spPr>
          <a:xfrm>
            <a:off x="5257800" y="41148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ETS Standar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NETS FOR TEACHERS</a:t>
            </a: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NETS FOR STUDENT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1 - Facilitate and Inspire Student Learning and Creativ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2- Design and Develop Digital Age Learning Experiences and Assess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3 – Model Digital Age Work and Lear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2- Communication and Collabo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3 - Research and Information Flu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4 – Critical Thinking, Problem Solving and Decision Mak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– Lesson #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oudy with a Chance of Meatballs Less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385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y the story to your clas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Cloudy with a Chance of Meatballs 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Book1 Compound Word Excel.xls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Georgia"/>
              </a:rPr>
              <a:t>The purpose of this lesson is to first show students in grade 1 and 2 what a spreadsheet looks like and why we use them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4" descr="C:\Users\susan.marshall\AppData\Local\Microsoft\Windows\Temporary Internet Files\Content.IE5\6AV762EA\MC900232518[1].wmf"/>
          <p:cNvPicPr/>
          <p:nvPr/>
        </p:nvPicPr>
        <p:blipFill>
          <a:blip r:embed="rId4"/>
          <a:stretch/>
        </p:blipFill>
        <p:spPr>
          <a:xfrm>
            <a:off x="6858000" y="3505320"/>
            <a:ext cx="2079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– Lesson #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mmar Scramblers Lesson – Grade 2 and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3328?ref=sear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ry of Little Red Riding Ho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youtube.com/watch?v=whP2p9sIJ6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Copy of fairytl - Grammar Scrambler.x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4" descr="C:\Users\susan.marshall\AppData\Local\Microsoft\Windows\Temporary Internet Files\Content.IE5\22EZCB43\MC900021589[1].wmf"/>
          <p:cNvPicPr/>
          <p:nvPr/>
        </p:nvPicPr>
        <p:blipFill>
          <a:blip r:embed="rId4"/>
          <a:stretch/>
        </p:blipFill>
        <p:spPr>
          <a:xfrm>
            <a:off x="152280" y="762120"/>
            <a:ext cx="17589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Lesson #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readsheets for Dinner – Grade 4 and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4009?ref=sear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tion.xls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5" descr="C:\Users\susan.marshall\AppData\Local\Microsoft\Windows\Temporary Internet Files\Content.IE5\22EZCB43\MC900389510[1].wmf"/>
          <p:cNvPicPr/>
          <p:nvPr/>
        </p:nvPicPr>
        <p:blipFill>
          <a:blip r:embed="rId2"/>
          <a:stretch/>
        </p:blipFill>
        <p:spPr>
          <a:xfrm>
            <a:off x="5867280" y="3809880"/>
            <a:ext cx="2103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Great Websites for Spreadsheet Idea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alicechristie.org/edtech/ss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www.madison.k12.al.us/compserv/Spreadsheets/spreadsheetresources.ht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volweb.utk.edu/school/tdalton/lesson2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oblyer, M.D. &amp; Doering, H. Aaron., Integrating Educational Technology into Teaching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dition, 2010 Pearson Education Canad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learnnc.or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5:29:47Z</dcterms:created>
  <dc:creator>susan marshall</dc:creator>
  <dc:description/>
  <dc:language>en-US</dc:language>
  <cp:lastModifiedBy>Mike</cp:lastModifiedBy>
  <dcterms:modified xsi:type="dcterms:W3CDTF">2012-07-12T17:40:27Z</dcterms:modified>
  <cp:revision>13</cp:revision>
  <dc:subject/>
  <dc:title>Spreadsheets in Language Arts</dc:title>
</cp:coreProperties>
</file>